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6194363"/>
        <c:axId val="1862882"/>
      </c:barChart>
      <c:catAx>
        <c:axId val="1619436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862882"/>
        <c:crosses val="autoZero"/>
        <c:auto val="1"/>
        <c:lblAlgn val="ctr"/>
        <c:lblOffset val="100"/>
        <c:noMultiLvlLbl val="0"/>
      </c:catAx>
      <c:valAx>
        <c:axId val="186288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619436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C0742-A13D-4E89-A6BF-201136C8E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AECF7-463C-405B-A3A2-0AC3DF69A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1C4F9-274F-461A-99FB-0A6591719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2469B-99D5-446B-B233-DF6CCC7CB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5B1D8-1C2E-443E-9C76-A4605FF16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76FFC-E060-459E-8EAA-D1B4D4C72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CA534-E915-4993-A9C1-3C2B7AF3A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F4CB2-9322-4FF5-AB09-1118ECD19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CABB2-35BB-474A-AD04-A8AD7EE88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82BB0-56D6-4652-AF78-00B5EF505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C6F91-58DB-44BA-B01F-589438CD5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132B7-CEAC-476A-97E8-D28B0EA2D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36693-B9FE-4E9A-96C6-354FE7EF4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4C59-271E-4434-9E51-251B6BE42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F01EA-500F-4A33-8EA0-406291CE5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1C00F-7DA6-407B-815B-4BD81B60B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63CAC-E04D-49F8-9DE3-F0BE3A6E3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2CC2-1030-47E7-A360-3D418C761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8F10C-238F-40D0-8294-FBF0154C0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0359A-88C9-4695-A254-B94D8F637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E052C-E570-4DAB-A5BA-247BDFB85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1B37-7775-4ED3-9B92-3EF437FB4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A4B3-DEFD-4E63-A562-C3DC42D94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6124A-4790-489A-81FA-1931EE973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058AA-7EE9-4EC7-9FAA-8B5A0F4DFCE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23679-2091-4917-A9AF-A1FE7B7481E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